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2F8-9E62-45D4-A552-AAEF48B1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59B-746D-4A88-81FB-15F4FE8B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ADF-7F27-4E24-931F-6CDB1E25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6B5-6ECC-4144-B87E-66B6CEBD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8FB-1D46-4CA5-986D-DE4EDB62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68A-0DA7-477B-94C4-BC82B72C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6D0-23C7-4D3F-A459-D1D62A63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9C3-3AFE-49D2-875E-C6C9FDAE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0EC-9F34-4C2E-A4EE-05C96093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0D6-79DF-441A-9CC3-4BBA2B10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8BE-565D-4785-B4C1-B0C14AFD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74E-A09C-4755-8841-0FF1141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38E6-A786-40F2-A38F-E8CC1193F03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44640"/>
            <a:ext cx="62658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aeaea"/>
                </a:solidFill>
                <a:latin typeface="Comic Sans MS"/>
              </a:rPr>
              <a:t>« En général il n’est guère aimé…je n’ai aucune raison de ne pas lui parler. 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(p31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1844640"/>
            <a:ext cx="6265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aeaea"/>
                </a:solidFill>
                <a:latin typeface="Comic Sans MS"/>
              </a:rPr>
              <a:t>« Je comprenais qu’il veuille la punir 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(p35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1844640"/>
            <a:ext cx="6265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aeaea"/>
                </a:solidFill>
                <a:latin typeface="Comic Sans MS"/>
              </a:rPr>
              <a:t>« Cela m’était égal d’être son copain 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(p36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1844640"/>
            <a:ext cx="6265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aeaea"/>
                </a:solidFill>
                <a:latin typeface="Comic Sans MS"/>
              </a:rPr>
              <a:t>« Je me suis appliqué à contenter Raymond parce que je n’avais pas de raison de ne pas le contenter. 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(p36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1844640"/>
            <a:ext cx="62658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omic Sans MS"/>
              </a:rPr>
              <a:t>« Elle m’a demandé si je l’aimais. Je lui ai répondu que cela ne voulait rien dire, mais qu’il me semblait que non.  Elle a eu l’air triste 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Comic Sans MS"/>
              </a:rPr>
              <a:t>(p39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981000"/>
            <a:ext cx="62658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omic Sans MS"/>
              </a:rPr>
              <a:t>« Il me disait combien il était content d’avoir réussi à punir sa maîtresse.  Je le trouvais très gentil avec moi et j’ai pensé que c’était un bon moment. 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Comic Sans MS"/>
              </a:rPr>
              <a:t>(p42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1268280"/>
            <a:ext cx="6265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omic Sans MS"/>
              </a:rPr>
              <a:t>« …j’ai compris qu’il pleurait. Je ne sais pas pourquoi j’ai pensé à maman. 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Comic Sans MS"/>
              </a:rPr>
              <a:t>(p42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Steve Badger</cp:lastModifiedBy>
  <dcterms:modified xsi:type="dcterms:W3CDTF">2006-08-28T15:21:12Z</dcterms:modified>
  <cp:revision>7</cp:revision>
  <dc:subject/>
  <dc:title>Les thèmes du récit</dc:title>
</cp:coreProperties>
</file>